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BA8-0321-417F-8507-6F719383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122-8AF3-4F1E-8B85-B68EBC9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321-1246-481D-B555-1676040E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44D-28E2-4317-BF20-6AD0BA17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C41-141E-4CBE-AC9D-944DCEB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5B9-A3A6-4592-96F7-555F0FA6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D70-AEE2-4814-9559-AF87E86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E74-3826-4233-B2A9-287A3187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2AA-CCE8-4F4D-A3E6-5E8C8246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200-07E4-402D-89B5-387BD74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502-5069-4AEA-9FE0-44855A6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B52-6D14-47AE-8AC1-D7A273C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0FB-A0FD-4852-96D7-4FE1513C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87280" y="1628280"/>
            <a:ext cx="424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тория мое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Яблоневый с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в 1896г. окончила в С.-Петербургском 1-м Доме Трудолюбия теоретический и практический курс кроя и шитья дамских и детских платьев по методу Ксавелия Глодзинского с хорошим успехом и получила аттестат. Анна Павловна считалась белошвейкой она прекрасно шила на всю свою большую семью, а также для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также умела вышивать гладью, бисером, плести кружева на коклюшках (белое покрывало до сих пор служит нам на даче). Анна Павловна вела большое хозяйство, воспитывала детей. А их в семье было восемь. В 1905г.19 февраля родилась старшая дочь Лидия, которая стала моей прабаб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5800" y="378936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ттестат Анны Павл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70440" y="6093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4821480" cy="340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1944720" cy="561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д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ван Андр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89000"/>
            <a:ext cx="7200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прадед Иван Андреевич любил бывать в обществе. Он также управлял мыловаренным заводом. Но после того как он заболел, правление в свои руки взяла Анна Павловна. Она была женщиной с сильным характером и хорошо со всем справля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первой буржуазной революции (1905-1907гг.) им пришлось очень туго. В результате этих обстоятельств Анна Павловна вместе с детьми, взяв с собой самое ценное, была вынуждена выехать в г. Рыбинск Ярославской Губернии к своим родствен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4040" y="57340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60280"/>
            <a:ext cx="460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 все еще продолжал управлять заводом, а когда совсем стало невмоготу и встал вопрос об угрозе жизни (он уже прятался в подвалах), что можно было продать продал, остальное - просто бросил и тоже уехал в г. Рыбин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141640" cy="5399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ереезд в Рыбинс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777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риезде в г. Рыбинск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и Анна Павловна отстроили дом на берегу Волги (деревня Бор Назаровского с/с). Дом два раза горел, но его отстраивали заново. Он и сейчас сохранился почти в первозданном виде, только нет цветной мозаики на стеклянной веранде, да хозяева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6760" y="2349360"/>
            <a:ext cx="4537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шая дочь Лидия работала на  судостроительном заводе на Слипе, ходила до работы с деревни Бор пешком. Помогала воспитывать своих братьев и сестер, переняла от матери мастерство в шитье (умела даже ткать одея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621160" cy="412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705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39г. познакомилась и расписалась в Назаровском с/с с Блюхером Александром Павловичем (родился 20 февраля1914г). Таким образом, породнились с многочисленной семьей Блюх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ни этой фамилии идут из деревни Барщинка Ярославской Губернии. Эта, затерявшаяся в лесах, деревенька находится по Пошехонской дороге, в 3 км в сторону от деревни Волково. До сих пор туда трудно добраться, особенно в период разлива Волковского ручья. Домов осталось совсем немного (в основном дачники), но наш родовой дом сохранился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3538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бабушка Лидия Иванов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юх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70600" cy="580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27236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 из семьи середняков. Держали корову, была своя маслобойка. Производили для себя и на продажу продукты со своего подсобного хозяйства. Семья была многочисленной: три брата и три сестры. Сестры Ольга и Серафима работали в колхозе (одна из них была брига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, Александр Павлович, и его братья Василий и Сергей работали в то время на заводе «П/я № 20»(сейчас НПО «Сатурн»). И теперь только приходится удивляться, как мой прадед Александр со своими братьями добирались до города пешком. А ведь это 20км пути. У него была редкая по тем временам специальность-шлифовщик. Прадед мой был призван в Советскую армию и служил в г. Грозный. Этот город прадед вспоминал, как красивейшее и благодатное место с цветущими садами, теплым климатом и хорош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249228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чший подарок для будущего - прош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76360" y="2492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д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ександр Павлович 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95920" cy="587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0360" y="4777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июля 1940г. у Лидии и Александра Блюхер родилась дочь Людмила. А 22 июня 1941г. началась Великая Отечественная война. Прадед Александр вместе со своими братьями был эвакуирован от завода в г. Уфа. Они сопровождали оборудование, станки на новое место и стали ковать победу в тылу. Лозунг был один: «Все для фронта, все для победы!».        Приходилось очень трудно: не доедали, работали сутками, валились с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205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юдмил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413160" cy="5735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404640"/>
            <a:ext cx="7417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, оставшейся в городе тоже было очень трудно. Моя прабабушка Лидия осталась на руках с маленьким ребенком, пожилой матерью и больной сестрой. Один из ее братьев  Леонид тоже ушел на фронт и пропал без вести под Ладогой. Сами они перебивались как могли. Все, что было ценного, обменивали на хлеб; ели подмороженную картошку(которую искали весной в земле на полях), ели отходы(жмых) сахаропаточного производства. Все же выжили и победили, так как вер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ась Великая Отечественная война, советские люди чувствовали себя победителями, им хотелось жить, созидать, творить. Советский народ верил в светлое буду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.К. Блюх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980640"/>
            <a:ext cx="72723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ня Барщинка – родина моего прадеда, является родиной выдающегося военачальника Маршала Советского Союза Василия Константиновича Блюхера. Его отец Константин и отец моего прадеда – Павел были двоюродными братьями. В деревне в то время было много родственников с такой фамилией, так как семьи были многочисл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916280"/>
            <a:ext cx="37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ветского Союза В.К.Блю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60800" cy="6045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260280"/>
            <a:ext cx="7705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К. Блюхер был не только крупным военачальником, но и Государственным деятелем, одним из тех, кто превратил Дальний Восток из экономически отсталого района в богатейший край со своей мощной промышленностью и развитым сельским хозяй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ысокие заслуги перед Родиной в эти годы Блюхера наградили только что учрежденным орденом Красной Звезды, двумя Орденами Ленина. В ноябре 1935г. ему было присвоено звание Маршала Совет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83664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8г., в период культа личности Сталина, Василий Константинович Блюхер, оклеветанный,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сь страшная, черная картина репрессий и преследований. Не миновала она и нашу семью. Отца моего прадеда – Павла несколько раз увозили на «черном воронке» в город, а может и дальше. Он возвращался домой весь побитый, еле живой и ничего не рассказывал в семье. Боялись даже обсуждать эту те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ослевоенные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Так все начин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4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же события происходили и в нашей семье. Мою бабушку Людмилу Александровну по причине фамилии врага народа не приняли в пионеры и в комсомол, драз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только в 1953г наступило облегчение. В.К. Блюхер был посмертно реабилитирован и признан всенародным гер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ша семья в послевоенные годы жила скромно, старались не афишировать своей фамилии, не знали, что будет дальш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59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ушка Людмила Александровна вышла замуж за Липатова Владислава Викторовича. Он был родом из семьи, которая приехала к нам в г. Рыбинск из « затопляемой зоны» (когда-то был город Молога). Теперь на этом месте простираются воды Рыбинского водохранилища. У них 1апреля1966г родилась дочь Алла –моя мама. Бабушка Людмила Александровна работала на моторостроительном заводе, оттуда ушла на пенсию. Она Ветеран труда. Дедушку я не видел, знаю, что он работал 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окончила Ленинградский институт Советской торговли им. Ф. Энгельса, в торговле уже без малого двадцать лет. Сейчас она работает старшим специалистом отдела маркетинга в оптовой фирме «Верхневолжская продуктовая комп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4365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абушка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1200" y="58053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ма Алла Влади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492360" cy="40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3633840" cy="4462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48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й папа, Андрей Игоревич, занимается промышленным рыболовством. В 1989г он женился на Липатовой Алле Владиславовне (01.04.1966г), а 17.04.1993г у них родился сын Дмитрий, то есть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0920" y="630864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и мама и п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103560" cy="453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место заклю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у может потребоваться мой материал?  Прежде всего будущим поколениям. Я хочу, чтобы они знали историю нашей семьи. И я надеюсь, что они продолжат начатое дело и сохранят семейную тради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1628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916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ую весну будет цвести наш яблоневый сад. А под кроной каштана звучать веселый смех и детские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997360" cy="40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912000" cy="6519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60280"/>
            <a:ext cx="7634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шей семье существует замечательная традиция – высаживать дерево на рождение ребенка. Таким деревом является яблоня. За много лет получился яблоневый сад, в котором есть яблони бабушки Лиды, дедушки Саши, мамы Аллы. Когда я родился, у меня тоже появилось свое дерев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205000"/>
            <a:ext cx="39448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авно на садовом участке мама посадила каштан. Мы решили – пусть это будет наше общее семейное дерево. Семья будет увеличиваться, а посаженное мамой дерево расти. Мы сможем собираться вместе под его широкой кро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3480" y="2492280"/>
            <a:ext cx="3962520" cy="4151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01680" y="1413000"/>
            <a:ext cx="7473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долго думал о нашем семейном дереве, о своих родных. И однажды у меня родилась идея заняться своей родословной, узнать историю м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стория семь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Ьеловых-Шашки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 повествование хочу начать с происхождения фамилии Белова-Шашкина. Эту двойную фамилию носила прапрабабушка Анна Павловна со стороны моей мамы Аллы Владиславовны. В кон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ее выдали замуж в г. С. – Петербург за Ивана Андреевича. Так объединился небольшой капитал двух семейств Беловых и Шашкиных (между собой дальние родственники – две тетушки, у которых не было детей, решили поженить своих племянника Ивана и племянницу Ан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 они в Санкт- Петербурге на Васильевском острове между Большим и Средним проспектом (?). Семья была зажиточной. В наследство от тетушек им достался мыловаренный завод и несколько скобяных л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51640" y="573408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ловы- Шаш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8480" y="4653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на Васильевск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4322880" cy="427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157560" cy="5078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баб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Анна Павло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5:05:03Z</dcterms:created>
  <dc:creator>Home</dc:creator>
  <dc:description/>
  <dc:language>en-US</dc:language>
  <cp:lastModifiedBy>Mama</cp:lastModifiedBy>
  <dcterms:modified xsi:type="dcterms:W3CDTF">2008-05-22T21:17:57Z</dcterms:modified>
  <cp:revision>27</cp:revision>
  <dc:subject/>
  <dc:title>Слайд 1</dc:title>
</cp:coreProperties>
</file>